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8.wmf" ContentType="image/x-wmf"/>
  <Override PartName="/ppt/media/image38.wmf" ContentType="image/x-wmf"/>
  <Override PartName="/ppt/media/image12.wmf" ContentType="image/x-wmf"/>
  <Override PartName="/ppt/media/image49.wmf" ContentType="image/x-wmf"/>
  <Override PartName="/ppt/media/image37.wmf" ContentType="image/x-wmf"/>
  <Override PartName="/ppt/media/image3.png" ContentType="image/png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28.wmf" ContentType="image/x-wmf"/>
  <Override PartName="/ppt/media/image61.wmf" ContentType="image/x-wmf"/>
  <Override PartName="/ppt/media/image7.wmf" ContentType="image/x-wmf"/>
  <Override PartName="/ppt/media/image1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60.wmf" ContentType="image/x-wmf"/>
  <Override PartName="/ppt/media/image20.png" ContentType="image/png"/>
  <Override PartName="/ppt/media/image23.wmf" ContentType="image/x-wmf"/>
  <Override PartName="/ppt/media/image58.wmf" ContentType="image/x-wmf"/>
  <Override PartName="/ppt/media/image21.wmf" ContentType="image/x-wmf"/>
  <Override PartName="/ppt/media/image17.png" ContentType="image/png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png" ContentType="image/png"/>
  <Override PartName="/ppt/media/image51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52.wmf" ContentType="image/x-wmf"/>
  <Override PartName="/ppt/media/image53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877-3531-4970-8991-BCC15798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16B-450C-43CE-9A78-8BC7164F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9D0-58D4-4780-BB81-F3148C51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AAF-D738-4390-A1C1-514AAFA7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CE5-DFE4-4646-AF03-6E91E88B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EF6-65C9-40A4-9CC7-36D01304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23C-ABEA-4AF5-9510-C398CC6D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157-2EBA-4B01-A54E-F07E38AD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D83-C15F-4F87-ABAC-E16AA6A1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728-FBDC-4F3C-9ADA-2CA49D90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117-BCFB-48D2-97B9-10E8DEF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98C-2088-42E4-8F4E-F4E67196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A437-F64D-429E-AEBC-296107AA6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44.wmf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45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46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47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48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49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50.wmf"/><Relationship Id="rId33" Type="http://schemas.openxmlformats.org/officeDocument/2006/relationships/oleObject" Target="../embeddings/oleObject13.bin"/><Relationship Id="rId34" Type="http://schemas.openxmlformats.org/officeDocument/2006/relationships/image" Target="../media/image51.wmf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2.wm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14.wmf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.wmf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6.wmf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29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30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32.wmf"/><Relationship Id="rId33" Type="http://schemas.openxmlformats.org/officeDocument/2006/relationships/oleObject" Target="../embeddings/oleObject13.bin"/><Relationship Id="rId34" Type="http://schemas.openxmlformats.org/officeDocument/2006/relationships/image" Target="../media/image33.wmf"/><Relationship Id="rId35" Type="http://schemas.openxmlformats.org/officeDocument/2006/relationships/oleObject" Target="../embeddings/oleObject14.bin"/><Relationship Id="rId36" Type="http://schemas.openxmlformats.org/officeDocument/2006/relationships/image" Target="../media/image34.wmf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36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D841-3D31-433D-97C8-A4C9EC33AD10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9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4084920" cy="437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773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24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</a:rPr>
              <a:t>dx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22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6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256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3789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378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3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wave function and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92480" y="1689120"/>
            <a:ext cx="1783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46280" y="1685880"/>
          <a:ext cx="470052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6280" y="1685880"/>
                    <a:ext cx="47005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7483320" y="52704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" y="22273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862360" y="2211480"/>
          <a:ext cx="310500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2211480"/>
                    <a:ext cx="3105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492480" y="279720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610000" y="2701800"/>
          <a:ext cx="2966760" cy="50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10000" y="2701800"/>
                    <a:ext cx="29667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522360" y="336384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2480" y="396864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300400" y="3968640"/>
          <a:ext cx="352728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00400" y="3968640"/>
                    <a:ext cx="35272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1766880" y="3246480"/>
          <a:ext cx="1209600" cy="552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6880" y="3246480"/>
                    <a:ext cx="120960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276720" y="3354480"/>
          <a:ext cx="1458720" cy="37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335448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4894200" y="3213000"/>
            <a:ext cx="219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+ and  cos -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397640" y="2217600"/>
            <a:ext cx="1068480" cy="973080"/>
            <a:chOff x="7397640" y="2217600"/>
            <a:chExt cx="1068480" cy="973080"/>
          </a:xfrm>
        </p:grpSpPr>
        <p:sp>
          <p:nvSpPr>
            <p:cNvPr id="355" name=""/>
            <p:cNvSpPr/>
            <p:nvPr/>
          </p:nvSpPr>
          <p:spPr>
            <a:xfrm>
              <a:off x="7983720" y="221760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15440" y="27241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17"/>
            <a:stretch/>
          </p:blipFill>
          <p:spPr>
            <a:xfrm>
              <a:off x="7466040" y="280188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18"/>
            <a:stretch/>
          </p:blipFill>
          <p:spPr>
            <a:xfrm>
              <a:off x="7612200" y="230184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19"/>
            <a:stretch/>
          </p:blipFill>
          <p:spPr>
            <a:xfrm>
              <a:off x="7397640" y="2297160"/>
              <a:ext cx="389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20"/>
            <a:stretch/>
          </p:blipFill>
          <p:spPr>
            <a:xfrm>
              <a:off x="8077320" y="227952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61" name=""/>
          <p:cNvGraphicFramePr/>
          <p:nvPr/>
        </p:nvGraphicFramePr>
        <p:xfrm>
          <a:off x="7392960" y="3422520"/>
          <a:ext cx="1028880" cy="330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392960" y="3422520"/>
                    <a:ext cx="10288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479520" y="4521240"/>
            <a:ext cx="1752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495520" y="4497480"/>
          <a:ext cx="2354400" cy="420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95520" y="4497480"/>
                    <a:ext cx="23544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402160" y="4417920"/>
          <a:ext cx="1967040" cy="520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02160" y="4417920"/>
                    <a:ext cx="1967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69880" y="5032440"/>
          <a:ext cx="1981080" cy="385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69880" y="5032440"/>
                    <a:ext cx="198108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2717640" y="502128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sine +, so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&amp;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quad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93640" y="5578560"/>
          <a:ext cx="4292640" cy="307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93640" y="5578560"/>
                    <a:ext cx="429264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463680" y="914400"/>
            <a:ext cx="79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the equation                                           in the interval  0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360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57440" y="932040"/>
          <a:ext cx="2436840" cy="312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57440" y="932040"/>
                    <a:ext cx="243684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5089680" y="5532480"/>
          <a:ext cx="2392200" cy="3650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089680" y="5532480"/>
                    <a:ext cx="2392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previousslide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21600" y="61578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F17D-0E0E-4C00-AB52-78562882AC5A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00000" y="1989000"/>
            <a:ext cx="3313080" cy="439272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08720" y="1916280"/>
            <a:ext cx="3313080" cy="4392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A981-2663-4775-A4EB-F2A402123B44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3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wave function and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8100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   Write 4 cosx + 3sinx in the form K cos(x-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   0 ≤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84464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4 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3 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K cos(x -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)    0 ≤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≥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234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 K [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2781360"/>
            <a:ext cx="30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 K 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K 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6920" y="3141720"/>
            <a:ext cx="31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 K cos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K 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3429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4       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   3       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640" y="3860640"/>
            <a:ext cx="12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K cos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640" y="4149720"/>
            <a:ext cx="12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K 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458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537372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5734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47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764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1844640"/>
            <a:ext cx="0" cy="453708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3860640"/>
            <a:ext cx="1728720" cy="792360"/>
          </a:xfrm>
          <a:prstGeom prst="cloudCallout">
            <a:avLst>
              <a:gd name="adj1" fmla="val -89671"/>
              <a:gd name="adj2" fmla="val -42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is 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551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465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177840" y="4576680"/>
            <a:ext cx="938160" cy="1440000"/>
          </a:xfrm>
          <a:prstGeom prst="cloudCallout">
            <a:avLst>
              <a:gd name="adj1" fmla="val -72166"/>
              <a:gd name="adj2" fmla="val 6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is 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47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7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4653000"/>
            <a:ext cx="15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s therefore  in the 1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quadrant since cos and sin both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28000" y="35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33577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2800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38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3789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7640" y="414972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407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6360" y="378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45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4869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7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d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213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 √ (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242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 √ (16 +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270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 √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3640" y="299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ind 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227640" y="4149720"/>
            <a:ext cx="21600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156360" y="3860280"/>
            <a:ext cx="216000" cy="28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5516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4 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3 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K cos(x -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5805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4 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3 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5 cos(x – 36.9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6093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 = 5 cos (x – 36.9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141720"/>
            <a:ext cx="936720" cy="574560"/>
          </a:xfrm>
          <a:prstGeom prst="ellipse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141720"/>
            <a:ext cx="936360" cy="574560"/>
          </a:xfrm>
          <a:prstGeom prst="ellipse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5FF9-8FB3-4112-9E50-16E2F299A379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3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wave function and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8100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the following in the form K cos (x -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   0 ≤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234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)    6 cosx + 8 sin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997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)    5 cosx + 12 sin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364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)    8 cosx + 15 sin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2276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)    y = 10 cos(x – 53.13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29973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)    y = 13 cos(x – 67.3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645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)    y = 17 cos(x – 61.927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7640" y="652140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6128-9310-4437-9263-769C7A302773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1989000"/>
            <a:ext cx="662616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2637000"/>
            <a:ext cx="74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ave Fun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ge 253 Exercise 1A    Q2, Q3, Q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3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wave function and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4221000"/>
            <a:ext cx="74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xtension  Wave   Fun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ge 253   Exercise 1B    Q1, Q2, Q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CD98-4B7D-4180-AAF9-637DC0E66A31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3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wave function and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98100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the following in the form K cos (x -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   0 ≤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844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xam Standard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33880" y="1851120"/>
            <a:ext cx="207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938320" y="1876320"/>
          <a:ext cx="453240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8320" y="1876320"/>
                    <a:ext cx="4532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216480" y="45752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0200" y="253368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17880" y="2517840"/>
          <a:ext cx="2874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7880" y="2517840"/>
                    <a:ext cx="28749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78160" y="325440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989440" y="3192480"/>
          <a:ext cx="257616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9440" y="3192480"/>
                    <a:ext cx="2576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77800" y="391320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461952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0" y="4605480"/>
          <a:ext cx="366696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4605480"/>
                    <a:ext cx="36669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333520" y="3809880"/>
          <a:ext cx="1032120" cy="552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33520" y="3809880"/>
                    <a:ext cx="1032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699000" y="3917880"/>
          <a:ext cx="1458720" cy="37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99000" y="391788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329080" y="3762360"/>
            <a:ext cx="219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both 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459560" y="2536920"/>
            <a:ext cx="1111320" cy="969840"/>
            <a:chOff x="7459560" y="2536920"/>
            <a:chExt cx="1111320" cy="969840"/>
          </a:xfrm>
        </p:grpSpPr>
        <p:sp>
          <p:nvSpPr>
            <p:cNvPr id="183" name=""/>
            <p:cNvSpPr/>
            <p:nvPr/>
          </p:nvSpPr>
          <p:spPr>
            <a:xfrm>
              <a:off x="7902720" y="253692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34440" y="30430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7"/>
            <a:stretch/>
          </p:blipFill>
          <p:spPr>
            <a:xfrm>
              <a:off x="7975440" y="3049560"/>
              <a:ext cx="38916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8"/>
            <a:stretch/>
          </p:blipFill>
          <p:spPr>
            <a:xfrm>
              <a:off x="7459560" y="2600280"/>
              <a:ext cx="38916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9"/>
            <a:stretch/>
          </p:blipFill>
          <p:spPr>
            <a:xfrm>
              <a:off x="7977240" y="2587680"/>
              <a:ext cx="3888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0"/>
            <a:stretch/>
          </p:blipFill>
          <p:spPr>
            <a:xfrm>
              <a:off x="8182080" y="2606760"/>
              <a:ext cx="388800" cy="3884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9" name=""/>
          <p:cNvGraphicFramePr/>
          <p:nvPr/>
        </p:nvGraphicFramePr>
        <p:xfrm>
          <a:off x="7553160" y="3900600"/>
          <a:ext cx="93204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3160" y="3900600"/>
                    <a:ext cx="9320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477720" y="901800"/>
            <a:ext cx="8188560" cy="412560"/>
            <a:chOff x="477720" y="901800"/>
            <a:chExt cx="8188560" cy="412560"/>
          </a:xfrm>
        </p:grpSpPr>
        <p:sp>
          <p:nvSpPr>
            <p:cNvPr id="192" name=""/>
            <p:cNvSpPr/>
            <p:nvPr/>
          </p:nvSpPr>
          <p:spPr>
            <a:xfrm>
              <a:off x="477720" y="901800"/>
              <a:ext cx="81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xpress                                  in the 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1417680" y="961920"/>
            <a:ext cx="1736640" cy="2923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417680" y="961920"/>
                      <a:ext cx="173664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4313160" y="950760"/>
            <a:ext cx="4302360" cy="363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313160" y="950760"/>
                      <a:ext cx="430236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36040" y="2808360"/>
            <a:ext cx="2160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for sine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63880" y="2671920"/>
          <a:ext cx="119232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63880" y="2671920"/>
                    <a:ext cx="11923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865760" y="4745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0560" y="3490920"/>
            <a:ext cx="2946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 of sine fun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7080" y="4211640"/>
            <a:ext cx="2401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 of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34880" y="865080"/>
            <a:ext cx="5856480" cy="1519920"/>
            <a:chOff x="434880" y="865080"/>
            <a:chExt cx="5856480" cy="1519920"/>
          </a:xfrm>
        </p:grpSpPr>
        <p:sp>
          <p:nvSpPr>
            <p:cNvPr id="215" name=""/>
            <p:cNvSpPr/>
            <p:nvPr/>
          </p:nvSpPr>
          <p:spPr>
            <a:xfrm>
              <a:off x="434880" y="865080"/>
              <a:ext cx="58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diagram shows an incomplete grap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6" name=""/>
            <p:cNvGraphicFramePr/>
            <p:nvPr/>
          </p:nvGraphicFramePr>
          <p:xfrm>
            <a:off x="1055520" y="1262160"/>
            <a:ext cx="3532320" cy="70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55520" y="1262160"/>
                      <a:ext cx="353232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"/>
            <p:cNvSpPr/>
            <p:nvPr/>
          </p:nvSpPr>
          <p:spPr>
            <a:xfrm>
              <a:off x="522360" y="1986120"/>
              <a:ext cx="52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nd the coordinates of the maximum stationary point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5668920" y="712800"/>
            <a:ext cx="2940120" cy="19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4416480" y="2682720"/>
          <a:ext cx="954000" cy="590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16480" y="2682720"/>
                    <a:ext cx="9540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3700440" y="347832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e takes values between 1 and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1680" y="42242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7440" y="4910040"/>
            <a:ext cx="2591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s of max s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517920" y="4784760"/>
          <a:ext cx="858960" cy="662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17920" y="4784760"/>
                    <a:ext cx="8589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7" name="" descr=""/>
          <p:cNvPicPr/>
          <p:nvPr/>
        </p:nvPicPr>
        <p:blipFill>
          <a:blip r:embed="rId14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33880" y="2279520"/>
            <a:ext cx="2113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914560" y="2305080"/>
          <a:ext cx="4581720" cy="37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4560" y="2305080"/>
                    <a:ext cx="45817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554880" y="5834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0200" y="28051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017880" y="2789280"/>
          <a:ext cx="2874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7880" y="2789280"/>
                    <a:ext cx="28749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78160" y="334008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11400" y="3278160"/>
          <a:ext cx="253044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1400" y="3278160"/>
                    <a:ext cx="25304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77800" y="387036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6360" y="440532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435400" y="4405320"/>
          <a:ext cx="3423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5400" y="4405320"/>
                    <a:ext cx="3423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335320" y="3767040"/>
          <a:ext cx="1030320" cy="552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35320" y="3767040"/>
                    <a:ext cx="10303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3699000" y="3875040"/>
          <a:ext cx="1458720" cy="37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99000" y="387504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5329080" y="3719520"/>
            <a:ext cx="219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both +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370640" y="2724120"/>
            <a:ext cx="1096920" cy="969840"/>
            <a:chOff x="7370640" y="2724120"/>
            <a:chExt cx="1096920" cy="969840"/>
          </a:xfrm>
        </p:grpSpPr>
        <p:sp>
          <p:nvSpPr>
            <p:cNvPr id="259" name=""/>
            <p:cNvSpPr/>
            <p:nvPr/>
          </p:nvSpPr>
          <p:spPr>
            <a:xfrm>
              <a:off x="7813800" y="272412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45520" y="323064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17"/>
            <a:stretch/>
          </p:blipFill>
          <p:spPr>
            <a:xfrm>
              <a:off x="7886880" y="323676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8"/>
            <a:stretch/>
          </p:blipFill>
          <p:spPr>
            <a:xfrm>
              <a:off x="7370640" y="2808360"/>
              <a:ext cx="389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9"/>
            <a:stretch/>
          </p:blipFill>
          <p:spPr>
            <a:xfrm>
              <a:off x="7888320" y="277488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0"/>
            <a:stretch/>
          </p:blipFill>
          <p:spPr>
            <a:xfrm>
              <a:off x="8078760" y="278604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65" name=""/>
          <p:cNvGraphicFramePr/>
          <p:nvPr/>
        </p:nvGraphicFramePr>
        <p:xfrm>
          <a:off x="7566120" y="3857760"/>
          <a:ext cx="90792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66120" y="3857760"/>
                    <a:ext cx="907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809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623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101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0720" y="768240"/>
            <a:ext cx="7569360" cy="1219680"/>
            <a:chOff x="450720" y="768240"/>
            <a:chExt cx="7569360" cy="1219680"/>
          </a:xfrm>
        </p:grpSpPr>
        <p:graphicFrame>
          <p:nvGraphicFramePr>
            <p:cNvPr id="271" name=""/>
            <p:cNvGraphicFramePr/>
            <p:nvPr/>
          </p:nvGraphicFramePr>
          <p:xfrm>
            <a:off x="517680" y="768240"/>
            <a:ext cx="2909880" cy="382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17680" y="768240"/>
                      <a:ext cx="290988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" name=""/>
            <p:cNvSpPr/>
            <p:nvPr/>
          </p:nvSpPr>
          <p:spPr>
            <a:xfrm>
              <a:off x="450720" y="1166760"/>
              <a:ext cx="39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)     Express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 in the 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4" name=""/>
            <p:cNvGraphicFramePr/>
            <p:nvPr/>
          </p:nvGraphicFramePr>
          <p:xfrm>
            <a:off x="3551400" y="1203480"/>
            <a:ext cx="4468680" cy="3412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551400" y="1203480"/>
                      <a:ext cx="446868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3514680" y="1611360"/>
            <a:ext cx="3197160" cy="3715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514680" y="1611360"/>
                      <a:ext cx="319716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8" name=""/>
            <p:cNvSpPr/>
            <p:nvPr/>
          </p:nvSpPr>
          <p:spPr>
            <a:xfrm>
              <a:off x="463680" y="1589040"/>
              <a:ext cx="306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b)     Hence solve algebraicall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77800" y="4971960"/>
            <a:ext cx="1752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562120" y="4987800"/>
          <a:ext cx="2252880" cy="420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62120" y="4987800"/>
                    <a:ext cx="22528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5508720" y="4924440"/>
          <a:ext cx="1865160" cy="520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508720" y="4924440"/>
                    <a:ext cx="1865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673200" y="5483160"/>
          <a:ext cx="1861920" cy="385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73200" y="5483160"/>
                    <a:ext cx="186192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2787480" y="54864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sine +, so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&amp;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quad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715000" y="5533920"/>
          <a:ext cx="2097000" cy="308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715000" y="5533920"/>
                    <a:ext cx="20970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92480" y="2192400"/>
            <a:ext cx="2716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tan A = sin A / co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636560" y="2660760"/>
          <a:ext cx="1006560" cy="55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6560" y="2660760"/>
                    <a:ext cx="10065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554880" y="5834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560" y="2757600"/>
            <a:ext cx="813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757600" y="3363840"/>
          <a:ext cx="1458720" cy="3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57600" y="336384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3227400" y="4029120"/>
            <a:ext cx="41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ne and cosine are both + in origin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507440" y="3562200"/>
            <a:ext cx="1096920" cy="969840"/>
            <a:chOff x="7507440" y="3562200"/>
            <a:chExt cx="1096920" cy="969840"/>
          </a:xfrm>
        </p:grpSpPr>
        <p:sp>
          <p:nvSpPr>
            <p:cNvPr id="309" name=""/>
            <p:cNvSpPr/>
            <p:nvPr/>
          </p:nvSpPr>
          <p:spPr>
            <a:xfrm>
              <a:off x="7950600" y="356220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82320" y="40687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9"/>
            <a:stretch/>
          </p:blipFill>
          <p:spPr>
            <a:xfrm>
              <a:off x="8023680" y="407484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0"/>
            <a:stretch/>
          </p:blipFill>
          <p:spPr>
            <a:xfrm>
              <a:off x="7507440" y="3646440"/>
              <a:ext cx="389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11"/>
            <a:stretch/>
          </p:blipFill>
          <p:spPr>
            <a:xfrm>
              <a:off x="8025120" y="361296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2"/>
            <a:stretch/>
          </p:blipFill>
          <p:spPr>
            <a:xfrm>
              <a:off x="8215560" y="362412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15" name=""/>
          <p:cNvGraphicFramePr/>
          <p:nvPr/>
        </p:nvGraphicFramePr>
        <p:xfrm>
          <a:off x="3389400" y="5106960"/>
          <a:ext cx="90792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89400" y="5106960"/>
                    <a:ext cx="907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463680" y="857160"/>
            <a:ext cx="8157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the simultaneous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ere  k &gt; 0  and  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479840" y="952560"/>
          <a:ext cx="1297080" cy="71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79840" y="952560"/>
                    <a:ext cx="1297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493920" y="3352680"/>
            <a:ext cx="186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cut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4640" y="4038480"/>
            <a:ext cx="2462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quadra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54400" y="4576680"/>
            <a:ext cx="41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ution must be in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quad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3200" y="5105520"/>
            <a:ext cx="1563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1-19T23:35:14Z</dcterms:modified>
  <cp:revision>36</cp:revision>
  <dc:subject/>
  <dc:title>Slide 1</dc:title>
</cp:coreProperties>
</file>